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0D6-2FF5-4CA4-80AC-E8E1F339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A20-66DD-4E56-9A62-8B2BFB52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B08-E36D-4B63-8AE7-20D27D8E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F62-EBEC-41B6-B148-4CB4791F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5E1-145E-4DAD-A57A-5A1F2773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A91-E5E9-4D13-80DE-FBFD2AAE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0CB-7F34-4499-9A54-4B00787B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765-AC29-4408-B5D5-585416EF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129-06F2-416D-9EB3-FE07013F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17F-9996-489E-A03B-B997F8EA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342-A638-4634-A0AF-ECA8B4DC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B92-130D-475F-B075-3644FCB4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2DDC-4732-4EAB-B126-5171A711D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80" y="2276640"/>
            <a:ext cx="9144000" cy="15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lectrical activity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72080" y="5656320"/>
            <a:ext cx="447192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partment of Phys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7360" y="144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700360" y="39337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ek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324000" y="441360"/>
            <a:ext cx="8820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ons conductance decreas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le K ions conductance pers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 ions outflow returns to membrane potential to Nernst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30"/>
          <p:cNvSpPr/>
          <p:nvPr/>
        </p:nvSpPr>
        <p:spPr>
          <a:xfrm>
            <a:off x="4356000" y="494172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380880" y="473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ting membrane potent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 with equal conductance for positive and negativ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rane potential remains at the value of Nernst’s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30"/>
          <p:cNvSpPr/>
          <p:nvPr/>
        </p:nvSpPr>
        <p:spPr>
          <a:xfrm>
            <a:off x="6084720" y="558972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s://www.urmc.rochester.edu/Encyclopedia/GetImage.aspx?ImageID=125477"/>
          <p:cNvPicPr/>
          <p:nvPr/>
        </p:nvPicPr>
        <p:blipFill>
          <a:blip r:embed="rId1"/>
          <a:stretch/>
        </p:blipFill>
        <p:spPr>
          <a:xfrm>
            <a:off x="1042920" y="378000"/>
            <a:ext cx="71294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26"/>
          <p:cNvSpPr/>
          <p:nvPr/>
        </p:nvSpPr>
        <p:spPr>
          <a:xfrm>
            <a:off x="250920" y="700560"/>
            <a:ext cx="889308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 system of the heart: sinoatrial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S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atrioventricular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ysiologic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heart b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stable resting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a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ann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27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8471880" y="47556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50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V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s-Purkinje’s system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latent pacemaker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replace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upp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25560" y="2644920"/>
            <a:ext cx="914400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ace of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determine heart rat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highest in SA 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shortes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slowest is His-Purkinje’s syste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S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AV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is-Purkinje’s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reason why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 pacemaker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50920" y="5589720"/>
            <a:ext cx="748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60-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40-6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 Purkinje’s fibe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15-4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26"/>
          <p:cNvSpPr/>
          <p:nvPr/>
        </p:nvSpPr>
        <p:spPr>
          <a:xfrm>
            <a:off x="324000" y="65880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ow and spontaneous depolar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ause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 activity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matis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well as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 an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ears as a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3581280" cy="1877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8184600" y="20808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27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581640" cy="1878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050"/>
          <p:cNvSpPr/>
          <p:nvPr/>
        </p:nvSpPr>
        <p:spPr>
          <a:xfrm>
            <a:off x="250920" y="745560"/>
            <a:ext cx="8569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membrane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e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ions inflow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most reaching the value of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fference in ions transf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atrial and ventricular muscles in phas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7" descr=""/>
          <p:cNvPicPr/>
          <p:nvPr/>
        </p:nvPicPr>
        <p:blipFill>
          <a:blip r:embed="rId1"/>
          <a:stretch/>
        </p:blipFill>
        <p:spPr>
          <a:xfrm>
            <a:off x="2771640" y="400536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26"/>
          <p:cNvSpPr/>
          <p:nvPr/>
        </p:nvSpPr>
        <p:spPr>
          <a:xfrm>
            <a:off x="241200" y="643320"/>
            <a:ext cx="8640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 ions outflow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 of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 phases 1 an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26"/>
          <p:cNvSpPr/>
          <p:nvPr/>
        </p:nvSpPr>
        <p:spPr>
          <a:xfrm>
            <a:off x="395280" y="353880"/>
            <a:ext cx="85694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ing down of impuls transmission in AV 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on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ive fiber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r diame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han SA n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r numb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p junc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ncreased resi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29" descr=""/>
          <p:cNvPicPr/>
          <p:nvPr/>
        </p:nvPicPr>
        <p:blipFill>
          <a:blip r:embed="rId1"/>
          <a:stretch/>
        </p:blipFill>
        <p:spPr>
          <a:xfrm>
            <a:off x="2195640" y="4149720"/>
            <a:ext cx="42670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039680"/>
            <a:ext cx="381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time required for excitation transmission through cardiac t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ends on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ve ions inflow during phas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ositive correl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His-Purkinje’s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allowing the synchronized ventricular contractio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753080" cy="5689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1258920" y="1911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ANATOMY OF THE CARDIAC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80880" y="1685880"/>
            <a:ext cx="38307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alated dis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located at the end of cardiac muscle cells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Gap junction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respond to 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ntercalated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low electrical resistance pathway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rapid signal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cardiac muscle to operate as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ical syncy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www.austincc.edu/apreview/NursingPics/CardiacPics/Picture6.jpg"/>
          <p:cNvPicPr/>
          <p:nvPr/>
        </p:nvPicPr>
        <p:blipFill>
          <a:blip r:embed="rId1"/>
          <a:stretch/>
        </p:blipFill>
        <p:spPr>
          <a:xfrm>
            <a:off x="4211640" y="1484280"/>
            <a:ext cx="49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79280" y="1268280"/>
            <a:ext cx="33530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st in AV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llowing the ventricular fillin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velocity increases – insufficient ventricular fillin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38164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08000" y="311760"/>
            <a:ext cx="49687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re numer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ep cell membrane invagination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rger diame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ted in th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the transfer of action potential into the muscl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robust in chambers (than in atria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ith sarcoplasmic ret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 voltage-dependent calcium receptor -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hydropyridine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08000" y="1699560"/>
            <a:ext cx="468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rcoplasmic reticulum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R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 diameter tubules located near contractil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of calcium ions and releasing site for calcium ions (excitation and contrac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calcium channels 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anodine receptors</a:t>
            </a:r>
            <a:r>
              <a:rPr b="0" i="1" lang="sr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R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HYTHMIC EXCITATION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62828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diac muscle contai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rial and ventricular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rt conduction system (specialized muscle fib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А n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V node – АV bund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 bun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kinje’s fi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950840" y="17784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OF THE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4000" y="1080000"/>
            <a:ext cx="85690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tricule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ria and Purkinj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le membran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pp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90 m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 reaching the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especially in Purkinje’s fibers (300 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479160" y="4292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635280" y="371628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24360" y="3933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156360" y="5805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348000" y="4941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5003640" y="5013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24000" y="330840"/>
            <a:ext cx="851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e to transi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permeability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ich allows enter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ns and depolarize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ches the Nernst’s potential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95640" y="350028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67" name="Oval 1030"/>
          <p:cNvSpPr/>
          <p:nvPr/>
        </p:nvSpPr>
        <p:spPr>
          <a:xfrm>
            <a:off x="3124080" y="50292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28680" y="489600"/>
            <a:ext cx="8351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itive ions outflow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ly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 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ed by chemical and electrical gradie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ly du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reased permeability for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io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71" name="Oval 1030"/>
          <p:cNvSpPr/>
          <p:nvPr/>
        </p:nvSpPr>
        <p:spPr>
          <a:xfrm>
            <a:off x="2987640" y="364500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340000" y="3429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95280" y="228600"/>
            <a:ext cx="8497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"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latea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taneous increase in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flow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still remaining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+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conduc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out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ions transfer is almost eq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the membrane potential remains its valu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isoelectric, plat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30"/>
          <p:cNvSpPr/>
          <p:nvPr/>
        </p:nvSpPr>
        <p:spPr>
          <a:xfrm>
            <a:off x="3851280" y="400536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Korisnik</cp:lastModifiedBy>
  <dcterms:modified xsi:type="dcterms:W3CDTF">2023-10-10T12:20:06Z</dcterms:modified>
  <cp:revision>259</cp:revision>
  <dc:subject/>
  <dc:title>Slide 1</dc:title>
</cp:coreProperties>
</file>